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250-94A5-4BA5-8C43-DD456505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23E-1F67-40DF-8DF4-F89754EC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079-0919-42D2-92FA-7C701F84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29C-1BBF-459D-93B7-2B6FDD3C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443-D8B2-421D-9CE8-ECA68B2C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4913-A9B6-45CD-8AC0-CADBDA0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B28-AFB5-42E9-85A8-A7319BC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343-00F6-4E83-8AF8-D6C258C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FE4C-BB6E-4163-A83D-ED95891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32ED-4E4F-456D-902C-A12B6E48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B87C-B700-4BA2-96ED-A212185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72F-1F9A-4EED-8622-7E8764F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FB7B-1C87-4641-9C65-C592F0B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401-5007-4ABD-B2DC-51A0FE2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422B-0ADC-4425-97C4-C8682CEB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FE1-077A-4E8F-9AFC-4366664A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D167-EB18-4F18-8F1D-25EC1626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0C17-5B15-4A75-9F71-EF7107C1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D046-6A19-4EE7-A287-71C62838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3AE9-D192-401F-8934-D4F9534E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46B2-751B-4693-9A6C-943E0391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2A9C-BCF6-49D7-9A39-4C13129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1F4-130A-43B9-9761-F77817D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46ED-BC5A-4D00-8F77-A7750E74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04CA-D899-4B5B-AB1A-7654A66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BFBD-B73D-4DE0-9293-EA82DD2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5504-5E9C-4ECC-A2A6-7A374C4F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8D3A-1552-45B9-B5AE-BAF9AE5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BE73-0980-4506-8529-35E1A656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F7BB-DA59-496E-9CE0-1CC2DA26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D6FF-B6F7-4CA3-9070-27A0ED4D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12BC-C182-426F-9CE1-7F048D0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FE32-814A-4092-BA0D-4D28E174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260-B07C-4B91-A7D6-36EBC061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618A-9848-4EBA-B731-6356FE10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3672-095A-4EB9-B1BF-E8ECDFF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8588-A900-4397-B48A-5868C89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CC3A-27C4-41B9-B9B1-EA45AD7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BCD1-DA97-45A0-A0E3-C576A9C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D70B-B91B-4714-BA9C-1893593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6C3B-BB02-49CC-9B7D-53DB3031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E4AA-BBDB-4655-9F2E-27BE51C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6C51-1CD0-45C8-BD7E-5E57B4A4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DE8-2194-4F80-BAAC-047F58F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236-7EA1-4A95-9048-5F5947E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7AD-F030-4036-8BF0-E9E5829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530-0FAD-4D35-9E68-3D3DB99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F5B-387D-472E-9AAA-5122D4B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8903-317B-4381-B807-5561038B3C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204C-6DDA-4F29-98F2-C486D8B300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E25B-1509-4990-9A4E-76700C8706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D6A-6CB9-4039-B1FD-89B2069855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ntroduction to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hort Stor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r. Smit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English 1 (H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will identify the elements of a short story in order to complete a graphic organiz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Short St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hort story is one that holds all the elements of a story, in a shorter form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se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vell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ett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time and place of the story’s action. Setting includes ideas, customs, values, and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: Long ago, in a galaxy far, far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bfff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9fbfff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e actors in a story’s plot. They can be people, animals, or whatever the writer cho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main charac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conflict with the main character.  Not all stories have antagon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The character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ttle Red Riding H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LRRH, the Big Bad Wolf, Grandma, and the woods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ittle Red Riding 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Big Bad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ruggle between opposing forces in a story or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hen a character struggles against some outside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ithin the mind of the charac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oint of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Vi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the relationship of the narrator, or storyteller, to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person point of vi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narrator is a character in the story, and referred to as “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-pers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rrator reveals the thoughts of only one character, referring to them as “he” or “sh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-person omnis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arrator knows everything about the story’s events and can reveal thoughts of all charac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m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entral idea or message of a story often a perception about life or huma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d the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irectly presented in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ed the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st be inferred by considering all the elements of a story and asking what message about life is conve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Plo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sequence of events in a story. Each event causes or leads to the nex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lots develop in five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roduces the stories characters, setting, and confli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ing a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ccurs as complications, twists, or intensifications of the conflict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emotional high point of the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ing a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logical result of the cli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esents the final outcome of the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04:35Z</dcterms:created>
  <dc:creator>Wake County Public Schools</dc:creator>
  <dc:description/>
  <dc:language>en-US</dc:language>
  <cp:lastModifiedBy>Smith-Breland</cp:lastModifiedBy>
  <dcterms:modified xsi:type="dcterms:W3CDTF">2009-11-11T19:23:57Z</dcterms:modified>
  <cp:revision>3</cp:revision>
  <dc:subject/>
  <dc:title>Introduction to The Short Story</dc:title>
</cp:coreProperties>
</file>